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37.jpeg" ContentType="image/jpeg"/>
  <Override PartName="/ppt/media/image42.png" ContentType="image/png"/>
  <Override PartName="/ppt/media/image45.png" ContentType="image/png"/>
  <Override PartName="/ppt/media/image46.jpeg" ContentType="image/jpeg"/>
  <Override PartName="/ppt/media/image51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52.jpeg" ContentType="image/jpeg"/>
  <Override PartName="/ppt/media/image3.png" ContentType="image/png"/>
  <Override PartName="/ppt/media/image33.png" ContentType="image/png"/>
  <Override PartName="/ppt/media/image48.jpeg" ContentType="image/jpeg"/>
  <Override PartName="/ppt/media/image53.png" ContentType="image/png"/>
  <Override PartName="/ppt/media/image13.png" ContentType="image/png"/>
  <Override PartName="/ppt/media/image54.jpeg" ContentType="image/jpeg"/>
  <Override PartName="/ppt/media/image30.jpeg" ContentType="image/jpe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9EF-909C-4707-B8A7-7C7E8389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D03-23AA-4A87-BB16-21D9F8DD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C1A-56C9-400B-BF11-27D0A21A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C0D-F1DA-479F-9649-017F8264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3C8F-9AD8-4C7A-9B7A-D82D93C8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0325-5925-4C18-BF01-207F1FAC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03AF-FBF9-4F6A-B829-87FB81E1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2581-A91B-4E3A-B915-180C0A39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6C09-3CCD-40B4-AE10-7C3A139B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77F2-0EA4-45DA-BDB3-963DD211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24FA-0C53-4053-B81C-6C621546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E9D-4564-4DA0-96D6-6C580E97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8192-7ECB-4556-8222-2C065684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B243-F376-4FAE-9467-69FBF7F0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81A6-CCB7-4B64-807F-B06DD092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34BA-AD6F-4E02-9CD6-284E7BAC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DD89-203B-4B4D-B032-E5913C17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A062E-1AEA-465E-8F08-B3FF3C0B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11EEB-52E7-4BDE-8D23-69C7E46B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48701-026F-4F32-80A0-1EB91C57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64A69-4913-4B74-B489-6B66FC8D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3093-4DEB-4911-ACD8-CAA6E4AE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503-8C3A-41DC-BBDA-FF1296F1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2CF97-F891-431D-8C24-CEBEE68F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ED9B7-0BD0-4EA4-AC6F-41DC69C1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5285-0F02-425E-9EC7-6929025E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15DCB-CAD8-48C3-9C3E-819E8D71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1DAE8-D556-4732-88A0-909F32EC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4A8FC-8843-4535-8D4C-D7C774DB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41887-F697-4F0A-9F63-DADB6DB7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8891A-3875-4A37-843F-E55F3891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359F8-787A-42B9-89AF-ED774068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4B077-905B-47CA-91CB-4C8906E2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BFC-21F8-4F47-924D-4EFC1D3B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0DDE9-5FFB-4B91-9046-EA2A6CFB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D31D7-539A-4EAD-B471-760ECF51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8F111-DE17-4CA2-847E-3EA3B9DD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B46EB-1463-4088-94D3-EC150C33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31368-3662-4B49-8B4C-9EAD27C8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910A-ECE5-45D2-B065-2F22812C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1FFC5-2A25-492F-A1BE-BF04BF8D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44FFC-3936-4275-8C87-775FC1FF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8658A-DF13-4E3E-9F26-462D1EF8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F5746-C9A1-4076-B10F-2E9E3A63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3B5-DF21-434E-8281-476D887B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ACBA2-C6CA-47C4-9D91-C12FDC25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EC866-46E4-4675-9EC6-9461C661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7BCF4-0987-4BE4-B6FE-1542005D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4C2DE-1959-4ED6-BDFE-B456D621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3546F-BECD-484E-8DF3-D0C5F48B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3E092-74BE-4338-B42D-4688400F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0D161-C9FC-4FB4-9D41-415134E9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1218E-530D-49EA-92C3-6DD53E0C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66BC7-C1CA-460A-9C20-C33FDCA6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06B60-0022-46CE-94A5-50CB7635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66A-AAC1-4750-8DDB-0CDE0607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284A7-FDE2-4934-B78A-81EDBB52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6D377-D06C-411D-A6AC-1E9E877C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879E8-3539-4F41-B524-8F10B890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3C7E4-6C60-4C85-AC6F-8F934ACD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F9AEF-AB03-4F54-8D8B-E27BE63A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051EE-6CA6-489A-B5C1-99195FEA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13512-A3DF-4802-A9FD-C06C4A0D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E2BB1-97D2-4A32-A1D8-5DE719D4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CBE92-6534-4C07-BBC0-30C31AEF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58104-2DF5-41D5-B7F6-BDDFD577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148-9446-400F-A818-22858A32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5E4B4-1CA1-461E-99FF-5252D6FB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621F1-9973-445E-A37B-14EB0C01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FC402-4F73-4E93-AE6D-964A3F56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0170E-4C58-4FD3-AE95-41DCBEDC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49297-A85E-4AD9-A4E1-B1ABC08F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EC88E-8FE2-4D75-B10A-C39CCABA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E41E0-F398-4409-94BD-3D052081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44B10-7711-4FDF-9585-E6EAF2F4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E58D5-637A-46F1-881E-8D1AB8F1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DF9EC-6766-4728-9FA9-77BF1F3C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46E-0B02-45FA-A13C-6B541122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FA081-8CD0-4C81-AA14-444A8282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DE4A5-0A0A-4379-ACDB-E6737A5A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8CF18-D68B-457B-9326-58992DFD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3A8CB-F0AE-415B-B933-BC04A87C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0B28E-5E4A-4E85-B185-8E99FC03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3F1-9810-428B-9A40-6F6D6B72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9FF8-9348-409F-9191-70DEBC2C394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3113-EE09-4F33-9462-40AF0405035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674E-5128-4D48-9201-B859A689B8FA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7B1A-8BEF-48C5-B7AC-07BB1491CC6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4B91-198C-4680-9D1A-BEC6526889F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8671-20B9-4958-87B9-B1FC536D38E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1AA2-B8FB-4B0E-9C98-BF0A13403E9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bigmyth.com/myths/english/2_greek_full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azlyrics.com/lyrics/kanyewest/flashinglights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457200" y="1298520"/>
            <a:ext cx="8077320" cy="167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Langu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ythology is the source of words such a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January- Janu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artial arts - Ma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useum- Mus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Volcano- Vulc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ypnotism- Hypn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hoe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2"/>
          <a:stretch/>
        </p:blipFill>
        <p:spPr>
          <a:xfrm>
            <a:off x="2590920" y="5232240"/>
            <a:ext cx="2361960" cy="1567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3"/>
          <a:stretch/>
        </p:blipFill>
        <p:spPr>
          <a:xfrm>
            <a:off x="5759280" y="3063960"/>
            <a:ext cx="28958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30" name="Content Placeholder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267080" cy="23893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"/>
          <p:cNvPicPr/>
          <p:nvPr/>
        </p:nvPicPr>
        <p:blipFill>
          <a:blip r:embed="rId3"/>
          <a:stretch/>
        </p:blipFill>
        <p:spPr>
          <a:xfrm>
            <a:off x="5257800" y="34560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4"/>
          <a:stretch/>
        </p:blipFill>
        <p:spPr>
          <a:xfrm>
            <a:off x="609480" y="4591080"/>
            <a:ext cx="38102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35" name="Content Placeholder 3" descr=""/>
          <p:cNvPicPr/>
          <p:nvPr/>
        </p:nvPicPr>
        <p:blipFill>
          <a:blip r:embed="rId1"/>
          <a:stretch/>
        </p:blipFill>
        <p:spPr>
          <a:xfrm>
            <a:off x="488880" y="533520"/>
            <a:ext cx="3029040" cy="2384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2"/>
          <a:stretch/>
        </p:blipFill>
        <p:spPr>
          <a:xfrm>
            <a:off x="2743200" y="3403440"/>
            <a:ext cx="6900840" cy="2800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"/>
          <p:cNvPicPr/>
          <p:nvPr/>
        </p:nvPicPr>
        <p:blipFill>
          <a:blip r:embed="rId3"/>
          <a:stretch/>
        </p:blipFill>
        <p:spPr>
          <a:xfrm>
            <a:off x="5067360" y="423720"/>
            <a:ext cx="3657600" cy="24339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"/>
          <p:cNvPicPr/>
          <p:nvPr/>
        </p:nvPicPr>
        <p:blipFill>
          <a:blip r:embed="rId4"/>
          <a:stretch/>
        </p:blipFill>
        <p:spPr>
          <a:xfrm>
            <a:off x="228600" y="2590920"/>
            <a:ext cx="408312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6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Click M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6840" y="15235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In the beginning there was only 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Chaos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--nothingness. Then came Death, Night, Day, Love, and the Heavens.  Eventually, 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Gaea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the earth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ppeared.  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Gaea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gave birth to 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the sky, Uranus,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 and he became her husband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Meanwhile, Gaea and Uranus produced the 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Cyclopes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, monstrous beasts with one eye, the 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Hecatoncheires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, monsters with fifty heads and one-hundred arms, and twelve beautiful children called the 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Titans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Cronu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became the next ruler. He imprisoned the Cyclopes and the Hecatoncheires in Tartarus, the deepest pit in the earth. He married his sister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Rhe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and under his rule the Titans had many offspring. He ruled for many ages. However,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Gae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Uranu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both had prophesied that he would be overthrown by a son. To avoid this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Cronu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swallowed each of his children as they were bor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Zeus became the next ruler of the gods and goddesses.  He freed his sisters Hera, Hestia and Demeter.   He also free his brothers Hades and Poseidon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OlymZeus.jpg"/>
          <p:cNvPicPr/>
          <p:nvPr/>
        </p:nvPicPr>
        <p:blipFill>
          <a:blip r:embed="rId1"/>
          <a:stretch/>
        </p:blipFill>
        <p:spPr>
          <a:xfrm>
            <a:off x="152280" y="1600200"/>
            <a:ext cx="3429000" cy="4952880"/>
          </a:xfrm>
          <a:prstGeom prst="rect">
            <a:avLst/>
          </a:prstGeom>
          <a:ln w="0">
            <a:noFill/>
          </a:ln>
        </p:spPr>
      </p:pic>
      <p:pic>
        <p:nvPicPr>
          <p:cNvPr id="350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3504960" y="1523520"/>
            <a:ext cx="571500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ZEUS (Roman name Jupiter) was the supreme god of the Olympians. Zeus was the youngest son of the Titans Cronus and Rhea. He controlled the sky and weath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885840" y="1676160"/>
            <a:ext cx="4876920" cy="4647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HERA (Roman name Juno) was the goddess of marriage and childbirth. Hera was the wife of Zeus and Queen of the Olympians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3" descr="OlymHera.jpg"/>
          <p:cNvPicPr/>
          <p:nvPr/>
        </p:nvPicPr>
        <p:blipFill>
          <a:blip r:embed="rId2"/>
          <a:stretch/>
        </p:blipFill>
        <p:spPr>
          <a:xfrm>
            <a:off x="304920" y="1752480"/>
            <a:ext cx="36576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74840" y="14097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anta Clau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Boogey M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nsters under the b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igfoo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ampire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Zombi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ramp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oth Fai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ster Bunn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upacabr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with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with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3428640" y="1600200"/>
            <a:ext cx="57150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POSEIDON (Roman name Neptune) was the god of the sea, earthquakes and horses. Poseidon was brother to Zeus and Hades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3" descr="OlymPoseidon.jpg"/>
          <p:cNvPicPr/>
          <p:nvPr/>
        </p:nvPicPr>
        <p:blipFill>
          <a:blip r:embed="rId2"/>
          <a:stretch/>
        </p:blipFill>
        <p:spPr>
          <a:xfrm>
            <a:off x="304920" y="1523880"/>
            <a:ext cx="3124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4349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is Roman name is Plut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 was also called the god of weal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32256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3581280" y="1774800"/>
            <a:ext cx="5105520" cy="3178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ES (Roman name Mars) was the god of war, or more precisely of warlike frenzy. His father was Zeu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4" descr="OlymAres.jpg"/>
          <p:cNvPicPr/>
          <p:nvPr/>
        </p:nvPicPr>
        <p:blipFill>
          <a:blip r:embed="rId2"/>
          <a:stretch/>
        </p:blipFill>
        <p:spPr>
          <a:xfrm>
            <a:off x="152280" y="1523880"/>
            <a:ext cx="332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:\Documents and Settings\Owner.WATERCHASER\My Documents\My Pictures\Miscellaneous\Greek Sword.jpg"/>
          <p:cNvPicPr/>
          <p:nvPr/>
        </p:nvPicPr>
        <p:blipFill>
          <a:blip r:embed="rId1"/>
          <a:stretch/>
        </p:blipFill>
        <p:spPr>
          <a:xfrm rot="2879400">
            <a:off x="-1026720" y="1277640"/>
            <a:ext cx="4626000" cy="4626000"/>
          </a:xfrm>
          <a:prstGeom prst="rect">
            <a:avLst/>
          </a:prstGeom>
          <a:ln w="0">
            <a:noFill/>
          </a:ln>
        </p:spPr>
      </p:pic>
      <p:pic>
        <p:nvPicPr>
          <p:cNvPr id="365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6"/>
          <p:cNvSpPr/>
          <p:nvPr/>
        </p:nvSpPr>
        <p:spPr>
          <a:xfrm>
            <a:off x="3048120" y="1752480"/>
            <a:ext cx="52578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The Roman god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ars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, with whom Ares was identified, was the father of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omulus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mus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, the mythological founders of Rome. Therefore, he was more important to the Romans than his Greek counterpar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3352680" y="1447560"/>
            <a:ext cx="5639040" cy="4724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THENA (Roman name Minerva) was the goddess of wisdom, crafts, weaving, and war strategy. She was the patron goddess of Athens. Her father was Zeus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4" descr="OlymAthena.jpg"/>
          <p:cNvPicPr/>
          <p:nvPr/>
        </p:nvPicPr>
        <p:blipFill>
          <a:blip r:embed="rId2"/>
          <a:stretch/>
        </p:blipFill>
        <p:spPr>
          <a:xfrm>
            <a:off x="152280" y="1523880"/>
            <a:ext cx="33274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OlymArtemis.jpg"/>
          <p:cNvPicPr/>
          <p:nvPr/>
        </p:nvPicPr>
        <p:blipFill>
          <a:blip r:embed="rId1"/>
          <a:stretch/>
        </p:blipFill>
        <p:spPr>
          <a:xfrm>
            <a:off x="5562720" y="1738440"/>
            <a:ext cx="3616200" cy="4114800"/>
          </a:xfrm>
          <a:prstGeom prst="rect">
            <a:avLst/>
          </a:prstGeom>
          <a:ln w="0">
            <a:noFill/>
          </a:ln>
        </p:spPr>
      </p:pic>
      <p:pic>
        <p:nvPicPr>
          <p:cNvPr id="371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-228960" y="152352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TEMIS (Roman name Diana) was the virgin goddess of  wild animals, hunting, and th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on. She helped women in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ildbirth but also brough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dden death with her arrows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e was the daughter of Zeu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523880"/>
            <a:ext cx="37339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 the goddess of the hearth (fireplace), Hestia personified the fire burning in the hearth of every home in Greece.  Her Roman name is Vest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63528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3733920" y="1371240"/>
            <a:ext cx="5410080" cy="5845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DEMETER (Roman name Ceres) was the goddess of agriculture and grain. Demeter was the sister of Zeus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Picture 3" descr="OlymDemeter.jpg"/>
          <p:cNvPicPr/>
          <p:nvPr/>
        </p:nvPicPr>
        <p:blipFill>
          <a:blip r:embed="rId2"/>
          <a:stretch/>
        </p:blipFill>
        <p:spPr>
          <a:xfrm>
            <a:off x="228600" y="1981080"/>
            <a:ext cx="34797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114800" y="1774800"/>
            <a:ext cx="45720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HEPHAESTUS (Roman name Vulcan) was the god of fire, crafts, and  blacksmiths. Hephaestus was the son of Zeu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3" descr="OlymHephaestus.jpg"/>
          <p:cNvPicPr/>
          <p:nvPr/>
        </p:nvPicPr>
        <p:blipFill>
          <a:blip r:embed="rId2"/>
          <a:stretch/>
        </p:blipFill>
        <p:spPr>
          <a:xfrm>
            <a:off x="304920" y="1905120"/>
            <a:ext cx="3429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3352320" y="1774800"/>
            <a:ext cx="53341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PHRODITE (Roman name Venus) was the goddess of love and beauty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3" descr="OlymAphrodite.jpg"/>
          <p:cNvPicPr/>
          <p:nvPr/>
        </p:nvPicPr>
        <p:blipFill>
          <a:blip r:embed="rId2"/>
          <a:stretch/>
        </p:blipFill>
        <p:spPr>
          <a:xfrm>
            <a:off x="304920" y="1523880"/>
            <a:ext cx="2361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at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arth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Oceans, mountains, forests, rivers, volcanoes, anima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niver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0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Sun, moon, stars, comets, plane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e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0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rain, clouds, storms, thunder, lightn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0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0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2437920" y="1447560"/>
            <a:ext cx="6248520" cy="5257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POLLO (Roman name Apollo) was the god of prophesy, music, light and medicine. His twin sister was Artemis.  His father was Zeus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3" descr="OlymApollo.jpg"/>
          <p:cNvPicPr/>
          <p:nvPr/>
        </p:nvPicPr>
        <p:blipFill>
          <a:blip r:embed="rId2"/>
          <a:stretch/>
        </p:blipFill>
        <p:spPr>
          <a:xfrm>
            <a:off x="380880" y="1295280"/>
            <a:ext cx="2159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200400" y="1599840"/>
            <a:ext cx="5943600" cy="6172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ERMES (Roman name Mercury) was the messenger of the gods and guide of dead souls to the Underworld. A prankster and inventive genius from birth, Hermes also aided many hereoes in their quests. Hermes was the son Zeu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3" descr="OlymHermes.jpg"/>
          <p:cNvPicPr/>
          <p:nvPr/>
        </p:nvPicPr>
        <p:blipFill>
          <a:blip r:embed="rId2"/>
          <a:stretch/>
        </p:blipFill>
        <p:spPr>
          <a:xfrm>
            <a:off x="228600" y="1676520"/>
            <a:ext cx="32767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14440" indent="-514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origin of humanki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f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00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rbel"/>
              </a:rPr>
              <a:t>Birth and death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roic victori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reat defea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war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unishm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fterlif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ds and Godde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re did the gods come from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w many gods are there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re do the gods live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an you see the gods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powers do the gods have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314360" indent="-514080">
              <a:spcBef>
                <a:spcPts val="601"/>
              </a:spcBef>
              <a:buClr>
                <a:srgbClr val="e66c7d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erest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ntertain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hows how ancient people viewed their worl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hows that ancient people were curious to know about how the world came to b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the literature and the medi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ercy Jacks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illiam Shakespea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arry Pot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ord of the Ring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ash of the Tita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ercu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Little Mermaid (King Triton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2"/>
          <a:stretch/>
        </p:blipFill>
        <p:spPr>
          <a:xfrm>
            <a:off x="4648320" y="2685960"/>
            <a:ext cx="43815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Mus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Lady Gaga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Kanye Wes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- I'm just saying, Hey Mona Lisa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e home you know you can't Rome without </a:t>
            </a: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Caesa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(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Flashing Light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Led Zeppeli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- Achilles' Last Sta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181080" y="14079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advertising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rand names based on mythological characters indicate high qua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rcury Ca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pollo Pian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2"/>
          <a:stretch/>
        </p:blipFill>
        <p:spPr>
          <a:xfrm>
            <a:off x="5943600" y="2660760"/>
            <a:ext cx="2895480" cy="19112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"/>
          <p:cNvPicPr/>
          <p:nvPr/>
        </p:nvPicPr>
        <p:blipFill>
          <a:blip r:embed="rId3"/>
          <a:stretch/>
        </p:blipFill>
        <p:spPr>
          <a:xfrm>
            <a:off x="6186600" y="4795920"/>
            <a:ext cx="2438280" cy="1969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4"/>
          <a:stretch/>
        </p:blipFill>
        <p:spPr>
          <a:xfrm>
            <a:off x="1981080" y="4481640"/>
            <a:ext cx="304812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8:50:47Z</dcterms:created>
  <dc:creator>GCSD</dc:creator>
  <dc:description/>
  <dc:language>en-US</dc:language>
  <cp:lastModifiedBy>Betty</cp:lastModifiedBy>
  <dcterms:modified xsi:type="dcterms:W3CDTF">2016-09-06T19:54:16Z</dcterms:modified>
  <cp:revision>37</cp:revision>
  <dc:subject/>
  <dc:title>What is Mythology?</dc:title>
</cp:coreProperties>
</file>